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3ED7-5DAF-41E5-9BBC-149F163B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5BB-89D0-4C0B-8B08-AD556E4E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E45-9B6A-419B-BE4B-22EA4063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82A-6E2D-4061-BFE7-5B9CEF52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B39-076C-4010-B33B-05F4D3D8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ED5-3AC0-492D-943B-1E9BF95D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CA4-358B-4287-95FD-C191C129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CF3-19F5-449A-9884-0E7C72F3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9C1-DCCB-41CA-9B2E-955534E1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570-5F02-4365-A876-2820644C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DC5-83F2-4C27-A26F-324E0D48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D87-F16A-439A-8F75-BBDB876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72E7-6120-4B51-96F7-7CF2D1526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396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n C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Iod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n Dialysis B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tarch Sol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Gluc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248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67652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otatoes in beakers with different 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Distilled H20, .2M, .4M, .6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easure percent change in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22884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96252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3:27:49Z</dcterms:created>
  <dc:creator>Phil Dorjath</dc:creator>
  <dc:description/>
  <dc:language>en-US</dc:language>
  <cp:lastModifiedBy>Phil Dorjath</cp:lastModifiedBy>
  <dcterms:modified xsi:type="dcterms:W3CDTF">2011-02-08T04:49:39Z</dcterms:modified>
  <cp:revision>9</cp:revision>
  <dc:subject/>
  <dc:title>Diffusion</dc:title>
</cp:coreProperties>
</file>